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42D5-5D5E-40E5-B4B4-FD0747E41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6F96-18CA-4F71-BE7D-78DE31198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CF5D-B748-4ABA-B1D7-BE6762C59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40A8-81E7-4BC9-8155-1993D5CDA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FA6B-93A5-4BA5-9198-4D29A8DB7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3ED2-DDF6-4E13-997D-05C0C26EA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0FEA-FD1F-4E0E-AFC2-F44572E2C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B23D-527F-4CF8-81EE-2417A2146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3D93-94E6-4B65-81FF-E48ACBD0F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1B17-C26E-4BF5-8789-835CFB1AD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A7CC-5A6E-4AAC-8395-BA9952AA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957E-3DCA-4258-A304-94495572B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3EA47-D8FB-457B-9334-5B5904F9E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924680" cy="31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Lucida Calligraphy"/>
              </a:rPr>
              <a:t>Ma photo d’autom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86000" y="2359080"/>
            <a:ext cx="40384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Lucida Calligraphy"/>
              </a:rPr>
              <a:t>Ma photo d’autom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alligraph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Lucida Calligraphy"/>
              </a:rPr>
              <a:t>Ma photo d’automne me donne envie de jouer parce qu’il y a beaucoup de soleil. J’aime aussi ma photo parce que les pommes me font penser aux bonnes tartes de ma mère. L’herbe me fait penser à une couverture parce que c’est épais et confortable. Les pommes me font aussi penser à des cerises parce qu’elles sont rouges et rondes et finalement la forêt et les arbres me rappelle mes étés chez mes grands-parents parce que la température était toujours très bel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52280" y="309600"/>
            <a:ext cx="1219320" cy="10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2T16:23:43Z</dcterms:created>
  <dc:creator>nbdoe</dc:creator>
  <dc:description/>
  <dc:language>en-US</dc:language>
  <cp:lastModifiedBy>nbdoe</cp:lastModifiedBy>
  <dcterms:modified xsi:type="dcterms:W3CDTF">2008-10-02T16:59:55Z</dcterms:modified>
  <cp:revision>3</cp:revision>
  <dc:subject/>
  <dc:title>Ma photo d’automne</dc:title>
</cp:coreProperties>
</file>